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9EA-5CB9-4B34-B1D9-0F01F42B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D69-F412-414C-9F82-9E25FCF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0C1-0629-47BD-B7BE-67BDA5D0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E48-DC42-40F0-8683-9AAC254D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ED9-B94A-4EEC-A56C-894E8310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C2D-4A17-4EE3-ACA1-81DFDFAC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38D-9C8A-4726-A69A-C37FF8C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508-714D-42F1-A5EE-AAAD1317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758-F628-4F06-AA00-62C13A48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941-03D3-4580-9FC7-8930BA1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346-E51A-4E01-8B2B-FD25B0D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020-61A9-4511-99CC-F52BBAD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B29-8F4C-48A1-AC34-26FB6BACC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13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pport d’activités de l’An I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d’Appui au Développement Sanitaire &amp; Social 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é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ante Sant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RS a réalisé quatre activités sur les 10 programmé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ls trois cercles ont réalisé toutes les activités programmées : Djenné, Douentza &amp; Mop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utres cercles ont réalisé les activités programmées à divers deg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l’INFS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deux activités programmées pendant le premier semestre ont été mises en oe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l’HS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une des cinq activités programmées pour le premier semestre - stages de perfectionnement ou recyclage et supervision des CSRef - n’a été réalisée au 31 décembre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Second 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des activités programmées des deux composantes pour le n’a pu être mise en œuvre au 31 décembre 2008, du fait des activités non planifiée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tissa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lan financier PO 2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ant du PO validé : 214.797.634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 to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écaiss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189.772.302 FCFA (88%) do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% pour le volet Santé, y compris l’HSD et  l’INFSS 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% pour le volet Développement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lan financier PO 2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tant jus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31 décembre 2008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tot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4.108.1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ancs ont été justifiés sur la somme de 189.772.302 francs CFA décaissée pour le  PO 2008, soi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.5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montant décais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montan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.880.502 francs CF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aissé pour les activités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nt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montan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.891.800 francs CF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aissé pour les activités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éveloppement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ontant justifié  représente 4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montant du PO 2008 vali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andations de la réunion préparatoire du C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er mission CEPRIS/DRS/AC/SS pour identifier &amp; quantifier les besoins en réhabilitation et équipement parmi les 10 CSCom sélectionnés par DRS, afin de pouvoir utiliser le reliquat de la construction des 5 C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er la mise en œuvre des activités planifiées dans le PO 2008 de HSD avant fin mars 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andations de la réunion préparatoire du C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er un plan de développement pour l’INFSS sur 3 ans pour permettre une vision d’ensemble des activités de l’é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fondir le début d’analyse des activités phares du PADSS (formations, ASACO, référence-évacuation, supervision, etc.) afin de tirer les leçons et capitaliser les acquis pour le fu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nq CSCom à construire sont définitivement les suivant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Koporo-Na (cercle de Koro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Ouenkoro (cercle de Bankas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Dioura (cercle de Ténenk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Kouakourou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Gagna (cercle de Djenné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om proposés pour bénéficier de réhabilitation, d’équipement et de dotation en 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1165320"/>
          <a:ext cx="7921440" cy="5073480"/>
        </p:xfrm>
        <a:graphic>
          <a:graphicData uri="http://schemas.openxmlformats.org/drawingml/2006/table">
            <a:tbl>
              <a:tblPr/>
              <a:tblGrid>
                <a:gridCol w="865080"/>
                <a:gridCol w="4103640"/>
                <a:gridCol w="29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 du CSCo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r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iag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llassag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jen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ent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ngour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nkab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fouroula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p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farab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énenk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lloub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p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ent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ormations non diplômantes à l’HSD du personnel des CSRef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decins généralistes dotés de compétences chirurgica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s, sages-femmes et techniciens de santé dotés de compétences en anesthésie et réanim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s et techniciens de santé dotés de compétences en aide-chirurgie et en odontostomat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sultats intermédiaires des stages à l’HSD des agents des CS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decin de Douentza : après deux mois de travail, 30 interventions chirurgicales do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 césarien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 cures herniaires pour neuf hernies simples et une hernie étranglé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hydrocè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lipomectomi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appendicecto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ques Résultats, Stages à l’HSD des agents des CSRe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 de Bandiagara : après 15 mois de travail (2007-2008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5 rachianesthés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 anesthésies générales sans int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anesthésies générales avec int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 anesthésie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tions à l’H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 PO 2008, sur sept formations du personnel des CSRef programmées à l’HS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seulement ont été réalisées 31 décembr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tre formations ne sont pas encore réalisées, dont trois programmées pour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estre 2008 et une programmée pour l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formation programmée pour être réalisée au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emestre 2008 a été annul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volution de la couverture sani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7461360" cy="4618080"/>
        </p:xfrm>
        <a:graphic>
          <a:graphicData uri="http://schemas.openxmlformats.org/drawingml/2006/table">
            <a:tbl>
              <a:tblPr/>
              <a:tblGrid>
                <a:gridCol w="3251160"/>
                <a:gridCol w="1008000"/>
                <a:gridCol w="1008000"/>
                <a:gridCol w="1008360"/>
                <a:gridCol w="11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urs cou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J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5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5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cons. cu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CPN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acc assis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préval. Contra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ECV au DTCP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ECV au V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FE VAT2/Rappe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mier semest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ante Développement So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DSES a réalisé six des sept activités programm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cercles ont réalisé toutes les activités programmées 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1:58:14Z</dcterms:created>
  <dc:creator>USER</dc:creator>
  <dc:description/>
  <dc:language>en-US</dc:language>
  <cp:lastModifiedBy>SOFRECO</cp:lastModifiedBy>
  <dcterms:modified xsi:type="dcterms:W3CDTF">2009-03-08T16:07:44Z</dcterms:modified>
  <cp:revision>19</cp:revision>
  <dc:subject/>
  <dc:title>Rapport d’activités de l’An 2 </dc:title>
</cp:coreProperties>
</file>