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8BA-86FC-45C7-9C22-3007ACF0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627-CF83-40B6-AF6F-1B8FE804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758-30F8-42C8-9EC7-840C40EC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A8A-692D-40A2-B537-0BA01896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3425-8E02-4227-BD7C-A114547E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1E97-19DD-4C0F-84B3-64195E0C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4619-AAFB-491C-BD5B-79FB0ECA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BC4C-76D2-4543-8B1E-D2405239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CACA-A5C2-4D8C-9E50-2FABB3B9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DA9B-823F-4F2D-AF88-78E7BF90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67BC-9A8A-4470-9E66-F8AAD49E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756-DC4A-451E-A8C7-B91A4735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C60F-F31B-4997-8320-0DAB31A6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AA84-5E72-4819-8E47-DCD4FC8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9D5A-F084-4AD4-97A7-6E285192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51C2-4E07-41F4-A52C-6F1E1FF3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3F1D-316A-4C60-A4DC-1DA0BE40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22B-A04E-4538-A6B4-8E1FBB7D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E37-DF8C-4880-B575-0D336429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494-15F5-4F47-95B5-97608A87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35A-F475-45D0-BDA4-51185A90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F85-632B-4B5C-A087-0C7870EF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5D2-D5E4-4593-8406-F8777A4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AAB-E859-4275-990D-F04D185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0FCB-761C-4525-A154-4ACE2D383C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64FE-1AEB-466B-9239-EBFBBDBC1A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6633"/>
                </a:solidFill>
                <a:latin typeface="Garamond"/>
              </a:rPr>
              <a:t>EPH SOMINE DOLO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393336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INT SUR LES CONDITIONNALITES SUSPEN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372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POINT DU PROCESSUS DE VALIDATION DU PE 2009-201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6633"/>
                </a:solidFill>
                <a:latin typeface="Garamond"/>
              </a:rPr>
              <a:t>I) Observations d’amélioration du P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résentation du document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aintenir la présentation actuell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évelopper le résumé exécutif (inclure les synthèses des activités médico-techniques et financières ; les tableaux des ressources humaines, etc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hanger le titre du chapitre faisabilité par « Faisabilité Financière 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ttre le coût de construction et des équipements du nouvel hôpital à titre indicatif, ne pas l’inclure dans le coût global du proje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le compte d’exploitation, tenir compte des subventions de l’Etat prévues dans le cadre de développement à moyen terme (CDMT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des programmations des recettes propres de façon raisonnable (tenir compte du poids de la gratuité, de l’effet de la délocalisation, et d’autres pesanteurs susceptibles d’influencer le niveau des recette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un chronogramme de délocalisation en prenant comme point de départ Septembre 20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aborer une stratégie de gestion des catastrophes dans le projet gestion et le plan MASH (mise en alerte des services hospitalier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dans la méthodologie toutes les démarches de projection des activit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ésenter la stratégie de communication sous forme de tableau avec les coûts par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6633"/>
                </a:solidFill>
                <a:latin typeface="Garamond"/>
              </a:rPr>
              <a:t>I) Observations d’amélioration du PE (suit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6633"/>
                </a:solidFill>
                <a:latin typeface="Garamond"/>
              </a:rPr>
              <a:t>II) Agenda de validation du P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0 Mars 2009 approbation par le CA extraordi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1 Mars transmission du document à la tut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33"/>
                </a:solidFill>
                <a:latin typeface="Garamond"/>
              </a:rPr>
              <a:t>CALENDRIER DE LEVÉE DES AUTRES  CONDITIONNALITÉS SUSPENSIVE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Contrat de performance (Evaluation de la performance par l’ANEH)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Bilan d’exécution du PE  2004-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Rapports d’activités 2004 à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rojet d’Etablissement 2009- 20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Tous disponibles le 31 Mars 2009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6633"/>
                </a:solidFill>
                <a:latin typeface="Garamond"/>
              </a:rPr>
              <a:t>Je vous remercie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6:51:27Z</dcterms:created>
  <dc:creator>User</dc:creator>
  <dc:description/>
  <dc:language>en-US</dc:language>
  <cp:lastModifiedBy>User</cp:lastModifiedBy>
  <dcterms:modified xsi:type="dcterms:W3CDTF">2009-03-09T13:18:55Z</dcterms:modified>
  <cp:revision>7</cp:revision>
  <dc:subject/>
  <dc:title>EPH SOMINE DOLO</dc:title>
</cp:coreProperties>
</file>