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7754-A997-498C-84D3-BFE86183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5FBF-EF38-45A0-90BB-C4ABF27A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4A39-1A4C-4B28-A259-BFE3AD1C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457A-E215-4B08-A490-B45124D0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3A85-1ABD-410B-A66F-13196308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6E66-54DA-458E-A7C3-E7611729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CE0E-18D8-498A-8571-3602B787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C546-301D-4D70-8872-249C3723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69DF-644C-4D1E-84D1-A0808A9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9344-8E7B-4F5D-808D-2379473F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25F1-ECB5-47C6-A421-E9C13AB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53E3-CD81-45FB-96FF-CE6DDA64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D8D4-57A8-4343-B5C5-0CCAA83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9B12-93D6-42EB-9C99-B086D4B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DCA-F8A5-4292-8721-CF44EBA9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5A9-E267-47F6-A5E5-540991C1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FAF6-6644-4A08-932F-9F9AC474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49B0-74C0-4399-8D1F-EF521CC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AF1C-88A0-4EF0-A251-153B1290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79D5-FE62-47A2-B346-EFD23B3F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21C6-2C9E-475A-8797-A34B5E17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7D34-78EC-4AAC-AC88-7715DCCE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2C5B-1680-469A-A560-6094D6C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DBAB-E91C-44DD-BF5B-288F0E27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A1CA-7047-4AF5-B235-3FBE2A9F6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6E91-9001-456B-91E8-2E930F8C02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D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ivi financier de la composante région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iements au 07/03/2009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5600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e jour, 42% du montant total de la composante a été versé à la D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557360"/>
          <a:ext cx="5398920" cy="5043600"/>
        </p:xfrm>
        <a:graphic>
          <a:graphicData uri="http://schemas.openxmlformats.org/drawingml/2006/table">
            <a:tbl>
              <a:tblPr/>
              <a:tblGrid>
                <a:gridCol w="3341520"/>
                <a:gridCol w="20574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ntant de la compos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 755 019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73 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CROC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 534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6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6 31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7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80 0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7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18 742 3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8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5 036 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8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2 518 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9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8 375 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otal des versements effectu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7 924 6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ol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607 094 7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GAGEMENTS REALI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4038120" cy="4524840"/>
        </p:xfrm>
        <a:graphic>
          <a:graphicData uri="http://schemas.openxmlformats.org/drawingml/2006/table">
            <a:tbl>
              <a:tblPr/>
              <a:tblGrid>
                <a:gridCol w="2499120"/>
                <a:gridCol w="1539000"/>
              </a:tblGrid>
              <a:tr h="90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26920" y="1600200"/>
          <a:ext cx="7859880" cy="4525920"/>
        </p:xfrm>
        <a:graphic>
          <a:graphicData uri="http://schemas.openxmlformats.org/drawingml/2006/table">
            <a:tbl>
              <a:tblPr/>
              <a:tblGrid>
                <a:gridCol w="4864320"/>
                <a:gridCol w="2995560"/>
              </a:tblGrid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9 Semestr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23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cherche 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sement AGETIPE 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oursiers 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ntant des engag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8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ppels des engagements 2009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s le PO 2009, sont prévu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0 millions au titre de la convention AGETIPE (120 millions au semestre 1 + 60 millions au semestre 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0 millions en provision pour un avenant AGETIPE (semestre 2) pour assurer la réalisation rapide d’une seconde vague de CSCOMS à réhabiliter / à confir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millions pour le paiement U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évisions engagements 20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s le PO 2010, sont prévu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millions au titre de la convention AGETI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1 millions pour le paiement U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ntant restant à engag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092560"/>
                <a:gridCol w="3137040"/>
              </a:tblGrid>
              <a:tr h="15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olde de la compos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607 094 7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gagements pr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8 00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ste à engager d’ici 2011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59 094 7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28:18Z</dcterms:created>
  <dc:creator>Olivia Vella</dc:creator>
  <dc:description/>
  <dc:language>en-US</dc:language>
  <cp:lastModifiedBy>Administrateur1</cp:lastModifiedBy>
  <dcterms:modified xsi:type="dcterms:W3CDTF">2009-03-08T15:21:43Z</dcterms:modified>
  <cp:revision>10</cp:revision>
  <dc:subject/>
  <dc:title>PADSS</dc:title>
</cp:coreProperties>
</file>