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CFD-23E9-45A3-8553-1F414816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2E7-8675-4804-8ADD-872CE771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28F-3EAA-438F-94E2-50AF25BD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182-0B52-4218-AF08-425DFA79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0D96-6FC3-4412-8E63-DA9AD8D9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5F7-FBCC-494D-8392-CF818C33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9C2-704A-4840-A37C-26E677C4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D54-3D25-49A0-A02E-A6F8DA9E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646-E7A6-45F5-8445-3A524284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648-6B26-45F8-BF6F-CF4A0D2A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5CF-9B34-4D42-9610-A6945B81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9E3-9D71-4E38-9CB3-279A089D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375D-988C-4A04-A50D-23DDF2275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CALISATION DES CSCom DANS LA REGION DE MOP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NS LE CADRE DU PAD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 de la médic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er des médecins dans des CSCom  en milieu rural en s’appuyant sur le concept de « médecin de campagne » p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gmenter l’accès des populations rurales de la région de Mopti à des soins médicalisés de qual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393372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ésultats attendus de la médicalisation des CSCom (1/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1: Les médecins généralistes et leurs équipes sont opérationnels sur l’ensemble des cinq aires de san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Com de Boré (Douent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Com de Diafarabé (Ténenk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Com de Dialassagou (Bank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Com de Konan (Mop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Com de Sofara (Djen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ésultats attendus de la médicalisation des CSCom (4/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2: Le suivi montre une amélioration des indicateurs d’activité et une gestion satisfaisan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ationalisation des ordonn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rmanence  des services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lobalité des so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des soins (CPN, Accouchement, CPoN, PF, PEV, S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mélioration du remplissage des su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ntrat signé avec SS pour la suite médicalisation : 5 nouveaux CSCom en 2009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crutement de cinq nouveaux médecins généralis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Étude de faisabilité dans une dizaine de CSCom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élection des cinq nouveaux CSCom à médicaliser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nsibilisation des parties prenantes (ASACO, mairies, ECD)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rmation des cinq médecins généralistes retenu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és prévues dans le cadre du contrat signé avec SS pour la suite de la médicalisation de cinq nouveaux CSCom en 200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Équipement et installation officielle des médecins dans les cinq CSCo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rmation en gestion des ASAC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uivis formatifs des médecins dans les CSCom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uivis des CSCom médicalisés depuis la 1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phas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ise en réseau des médecins avec l’AMC, réunions générales, etc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e vous remerci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17:58Z</dcterms:created>
  <dc:creator>USER</dc:creator>
  <dc:description/>
  <dc:language>en-US</dc:language>
  <cp:lastModifiedBy>SOFRECO</cp:lastModifiedBy>
  <dcterms:modified xsi:type="dcterms:W3CDTF">2009-03-08T16:23:02Z</dcterms:modified>
  <cp:revision>13</cp:revision>
  <dc:subject/>
  <dc:title>MEDICALISATION DES CSCom DANS LA REGION DE MOPTI</dc:title>
</cp:coreProperties>
</file>