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781800"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24139E-0BFA-4E0B-BA50-CFCEC05880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F55878-1C40-4474-93D0-1E1E95BA45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0F038F-F7DB-483A-BD1F-E5F04154AC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0DF7D4-64D9-4D45-9340-F4EFDB78FF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14E5F1-C3D9-4968-8562-DBFAA1E875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7BBC1E-32AC-4E86-AB12-FE090A60A6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15C798-2580-4446-9552-2292F3C5B6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4F50C2-9DA8-47E2-A845-35622C35C6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37BC45-20F4-4C54-99F4-791B66A77B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70BA6F-6201-497E-A426-09BC225738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306C38-7697-47D8-9D86-E91A015BD8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31A6E1-DC4E-4E7D-982A-BCE0DFC388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BB5E7-1396-4343-A45F-2C2CDEDFDBDE}"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CRUTEMENT D’UN OPERATEUR PRIVE POUR LE DÉVELOPPEMENT DES MUTUELLES DE SANTE DANS LA REGION DE MOPTI</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CTP 09 mars 2009</a:t>
            </a:r>
          </a:p>
        </p:txBody>
      </p:sp>
      <p:sp>
        <p:nvSpPr>
          <p:cNvPr id="4" name="PlaceHolder 3"/>
          <p:cNvSpPr>
            <a:spLocks noGrp="1"/>
          </p:cNvSpPr>
          <p:nvPr>
            <p:ph type="sldNum" idx="3"/>
          </p:nvPr>
        </p:nvSpPr>
        <p:spPr/>
        <p:txBody>
          <a:bodyPr/>
          <a:p>
            <a:fld id="{F0CB80A5-693E-4773-A7D2-A0846CE02AC7}"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commandation de la Convention d’exécution</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rocéder à la contractualisation avec l’UTM ou toute autre structure spécialisée et inscrire le coût de l’activité au niveau de la DRDSES en fonction des résultats de l’étude de faisabilité devant être lancée sur les mutuelles et les association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CTP 09 mars 2009</a:t>
            </a:r>
          </a:p>
        </p:txBody>
      </p:sp>
      <p:sp>
        <p:nvSpPr>
          <p:cNvPr id="5" name="PlaceHolder 4"/>
          <p:cNvSpPr>
            <a:spLocks noGrp="1"/>
          </p:cNvSpPr>
          <p:nvPr>
            <p:ph type="sldNum" idx="3"/>
          </p:nvPr>
        </p:nvSpPr>
        <p:spPr/>
        <p:txBody>
          <a:bodyPr/>
          <a:p>
            <a:fld id="{B515ABC6-A680-470C-A021-623BBD50453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État de mise en œuvre (1/2)</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rès obtention de l’ANO des PTF pour la passation du marché par entente directe, l’</a:t>
            </a:r>
            <a:r>
              <a:rPr b="1" lang="en-US" sz="2800" spc="-1" strike="noStrike">
                <a:solidFill>
                  <a:srgbClr val="333399"/>
                </a:solidFill>
                <a:latin typeface="Arial"/>
              </a:rPr>
              <a:t>Union Technique de la Mutualité </a:t>
            </a:r>
            <a:r>
              <a:rPr b="0" lang="en-US" sz="2800" spc="-1" strike="noStrike">
                <a:solidFill>
                  <a:srgbClr val="000000"/>
                </a:solidFill>
                <a:latin typeface="Arial"/>
              </a:rPr>
              <a:t>(UTM) a été sélectionnée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 contrat avec l’UTM a été limité à 24 mois pour un montant de 131 millions francs, dont 50 millions francs inscrits au PO 2009 et 81millions francs CFA à inscrire au PO 2010.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 nombre de mutuelles à créer et à revitaliser a fait l’objet de négociations avec l’opérateur.</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CTP 09 mars 2009</a:t>
            </a:r>
          </a:p>
        </p:txBody>
      </p:sp>
      <p:sp>
        <p:nvSpPr>
          <p:cNvPr id="5" name="PlaceHolder 4"/>
          <p:cNvSpPr>
            <a:spLocks noGrp="1"/>
          </p:cNvSpPr>
          <p:nvPr>
            <p:ph type="sldNum" idx="3"/>
          </p:nvPr>
        </p:nvSpPr>
        <p:spPr/>
        <p:txBody>
          <a:bodyPr/>
          <a:p>
            <a:fld id="{B4ADEBE6-F6BE-42A8-AE35-BA9F2BF36A1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État de mise en œuvre (2/2)</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a version finale du contrat doit être envoyée aux PTF pour ANO</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a signature du contrat est attendue pour le 1</a:t>
            </a:r>
            <a:r>
              <a:rPr b="0" lang="en-US" sz="4000" spc="-1" strike="noStrike" baseline="30000">
                <a:solidFill>
                  <a:srgbClr val="000000"/>
                </a:solidFill>
                <a:latin typeface="Arial"/>
              </a:rPr>
              <a:t>er</a:t>
            </a:r>
            <a:r>
              <a:rPr b="0" lang="en-US" sz="4000" spc="-1" strike="noStrike">
                <a:solidFill>
                  <a:srgbClr val="000000"/>
                </a:solidFill>
                <a:latin typeface="Arial"/>
              </a:rPr>
              <a:t> avril 2009</a:t>
            </a:r>
            <a:endParaRPr b="0" lang="en-US" sz="4000" spc="-1" strike="noStrike">
              <a:solidFill>
                <a:srgbClr val="000000"/>
              </a:solidFill>
              <a:latin typeface="Arial"/>
            </a:endParaRPr>
          </a:p>
        </p:txBody>
      </p:sp>
      <p:sp>
        <p:nvSpPr>
          <p:cNvPr id="4" name="PlaceHolder 3"/>
          <p:cNvSpPr>
            <a:spLocks noGrp="1"/>
          </p:cNvSpPr>
          <p:nvPr>
            <p:ph type="ftr" idx="2"/>
          </p:nvPr>
        </p:nvSpPr>
        <p:spPr/>
        <p:txBody>
          <a:bodyPr/>
          <a:p>
            <a:r>
              <a:t>CTP 09 mars 2009</a:t>
            </a:r>
          </a:p>
        </p:txBody>
      </p:sp>
      <p:sp>
        <p:nvSpPr>
          <p:cNvPr id="5" name="PlaceHolder 4"/>
          <p:cNvSpPr>
            <a:spLocks noGrp="1"/>
          </p:cNvSpPr>
          <p:nvPr>
            <p:ph type="sldNum" idx="3"/>
          </p:nvPr>
        </p:nvSpPr>
        <p:spPr/>
        <p:txBody>
          <a:bodyPr/>
          <a:p>
            <a:fld id="{84270664-3A86-4D1C-BFCA-E5325570A2E8}" type="slidenum">
              <a:t>4</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8T22:11:55Z</dcterms:created>
  <dc:creator>LAMINE</dc:creator>
  <dc:description/>
  <dc:language>en-US</dc:language>
  <cp:lastModifiedBy>SOFRECO</cp:lastModifiedBy>
  <dcterms:modified xsi:type="dcterms:W3CDTF">2009-03-07T17:54:51Z</dcterms:modified>
  <cp:revision>39</cp:revision>
  <dc:subject/>
  <dc:title>POINT D’EXECUTION DU DAO POUR LE RECRUTEMENT D’UN OPERATEUR PRIVE POUR LA MISE EN ŒUVRE DES MUTUELLES DE SANTE.</dc:title>
</cp:coreProperties>
</file>